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DA4A-4C1C-495F-99F2-A018796F1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0E52-9378-4497-9DE7-8B2630733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2BB0-C0BC-4C07-8249-FE0813A70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3D53-4302-40BB-ADCB-2C8D20F99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579D-2C49-42BA-8DF5-FDAD61E5B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6D8-0B19-477F-8D73-0740DFB6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CE4-6417-490D-9ABB-AF77280B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B70-EB8C-466F-BDAB-3113C9C1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013-36EF-4183-8CCB-AF3D3E03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7CE-6BAE-4907-A62C-FAB486FD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D0D-C462-4772-8458-E1AF17D7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FD2-BB13-4C06-9C35-56A8A4A8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8DE-46CF-4859-9AC3-1E4925D5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812-6B79-4532-9A27-45855151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646-4DD4-4032-9AE6-9E1D3E40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135-7DF0-48B3-9431-0B0C6A85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0EE-9A5C-4029-BA8D-B57EE52F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55D4-F659-4B99-9938-200761568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8382240" cy="33526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CIENCE 8 UNIT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nit Objectiv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result of this unit, the students wil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know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result of this lesson students wil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nderstan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th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result of this unit, the student wil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 able t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80880" y="4495680"/>
            <a:ext cx="8305920" cy="21337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structional Strategies Used in this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095880" y="0"/>
            <a:ext cx="2667240" cy="832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er: Sandra Dun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ton Middl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ton, W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74680"/>
            <a:ext cx="82296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609480"/>
          <a:ext cx="8381880" cy="605484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 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i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1040"/>
          <p:cNvSpPr/>
          <p:nvPr/>
        </p:nvSpPr>
        <p:spPr>
          <a:xfrm>
            <a:off x="228600" y="685800"/>
            <a:ext cx="8594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72"/>
          <p:cNvSpPr/>
          <p:nvPr/>
        </p:nvSpPr>
        <p:spPr>
          <a:xfrm>
            <a:off x="14616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74"/>
          <p:cNvSpPr/>
          <p:nvPr/>
        </p:nvSpPr>
        <p:spPr>
          <a:xfrm>
            <a:off x="14616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76"/>
          <p:cNvSpPr/>
          <p:nvPr/>
        </p:nvSpPr>
        <p:spPr>
          <a:xfrm>
            <a:off x="14616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80"/>
          <p:cNvSpPr/>
          <p:nvPr/>
        </p:nvSpPr>
        <p:spPr>
          <a:xfrm>
            <a:off x="147600" y="4772160"/>
            <a:ext cx="2509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000"/>
            </a:br>
            <a:br>
              <a:rPr sz="1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84"/>
          <p:cNvSpPr/>
          <p:nvPr/>
        </p:nvSpPr>
        <p:spPr>
          <a:xfrm>
            <a:off x="304920" y="1522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85"/>
          <p:cNvSpPr/>
          <p:nvPr/>
        </p:nvSpPr>
        <p:spPr>
          <a:xfrm>
            <a:off x="304920" y="152280"/>
            <a:ext cx="8458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quisition Lesson Planning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 for the Concept, Topic, or Skill --- Not for the 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97"/>
          <p:cNvSpPr/>
          <p:nvPr/>
        </p:nvSpPr>
        <p:spPr>
          <a:xfrm>
            <a:off x="2209680" y="990720"/>
            <a:ext cx="6553440" cy="38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99"/>
          <p:cNvSpPr/>
          <p:nvPr/>
        </p:nvSpPr>
        <p:spPr>
          <a:xfrm>
            <a:off x="2209680" y="1447920"/>
            <a:ext cx="65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00"/>
          <p:cNvSpPr/>
          <p:nvPr/>
        </p:nvSpPr>
        <p:spPr>
          <a:xfrm>
            <a:off x="2209680" y="1447920"/>
            <a:ext cx="655344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01"/>
          <p:cNvSpPr/>
          <p:nvPr/>
        </p:nvSpPr>
        <p:spPr>
          <a:xfrm>
            <a:off x="2209680" y="2286000"/>
            <a:ext cx="6553440" cy="2871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02"/>
          <p:cNvSpPr/>
          <p:nvPr/>
        </p:nvSpPr>
        <p:spPr>
          <a:xfrm>
            <a:off x="2209680" y="5173560"/>
            <a:ext cx="655344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03"/>
          <p:cNvSpPr/>
          <p:nvPr/>
        </p:nvSpPr>
        <p:spPr>
          <a:xfrm>
            <a:off x="380880" y="990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ential Ques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04"/>
          <p:cNvSpPr/>
          <p:nvPr/>
        </p:nvSpPr>
        <p:spPr>
          <a:xfrm>
            <a:off x="380880" y="14479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ivating    Strate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05"/>
          <p:cNvSpPr/>
          <p:nvPr/>
        </p:nvSpPr>
        <p:spPr>
          <a:xfrm>
            <a:off x="380880" y="2362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ing Strateg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06"/>
          <p:cNvSpPr/>
          <p:nvPr/>
        </p:nvSpPr>
        <p:spPr>
          <a:xfrm>
            <a:off x="685800" y="42670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07"/>
          <p:cNvSpPr/>
          <p:nvPr/>
        </p:nvSpPr>
        <p:spPr>
          <a:xfrm>
            <a:off x="380880" y="53341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marizing Strategi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666880" y="1522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 Title 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28600" y="533520"/>
            <a:ext cx="845820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Os ADDDRES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28600" y="3200400"/>
            <a:ext cx="8458200" cy="3505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p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liza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9:55:27Z</dcterms:created>
  <dc:creator>Nanci Smith</dc:creator>
  <dc:description/>
  <dc:language>en-US</dc:language>
  <cp:lastModifiedBy>WVDE</cp:lastModifiedBy>
  <dcterms:modified xsi:type="dcterms:W3CDTF">2008-09-22T18:43:16Z</dcterms:modified>
  <cp:revision>18</cp:revision>
  <dc:subject/>
  <dc:title>Slide 1</dc:title>
</cp:coreProperties>
</file>